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2A2-3114-49BB-8759-BBC50539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BF8-C0A4-47EC-B777-46A3E691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AB819B-91E0-40CB-8F21-6D3CB26E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90D399-980D-4167-B300-D00A913F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EB4D1-A79A-4C85-92FD-DAA013C4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46DAF1-E61C-42D2-A3A6-45087DE9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CB9CC2-64F6-4250-936B-C591735D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59ADA4-2342-4A24-8028-868DD97C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A059F8-C232-47F0-9960-CE0A25B6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ADCE94-18DA-4F02-948C-1FEFBA26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A1DCC0-A895-4D6A-B8B7-6C436EBA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05E38-5E6F-4D2F-8906-D31D648D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34A-514E-42D5-AA37-9102D0BC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10F81-652E-4DDF-BC64-113E11BD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69C16-EB54-45E5-9AF7-3C2C7B1C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3B35E-C612-4604-804A-0492D7F5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ABDCA-F114-4547-81FE-C472C818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06F41-CC7D-4686-A0E4-6C9C6E46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B7B27-06AC-40F9-84B1-5011B164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0B3C9-0189-4FFC-852D-69800A3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72FD1-390E-4CB9-98A7-5CA9929C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4BC93-F1C1-467E-933B-E20F10B4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55703-5DFC-4F8D-B6B8-C7263BF4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014-E399-4CFB-93EB-4A19C7BF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33B73-BAD6-4558-AF34-D769E3DA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65C20-1995-43CC-A94D-E92D9D17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56818-C439-4D80-B448-BBC2696B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E1E5A-D6E5-4FD8-A594-643AC69C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66CE8-623B-46B2-9775-30E441E4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99007-6516-43ED-950D-2B12AB04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A74B3-7166-41CC-97CD-5816F933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F1C9C-E3E8-4A94-8F87-9BD9E1F0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DA9A0-EDE6-4C8B-8CE5-ECE29783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88D3A-2332-4518-8637-A5D105F5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EB6B-8249-4F3B-A7E6-BC31E366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01568-2FAF-4CD2-905B-9BB420B5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B5138-0D2A-46B2-A25D-8C450336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CFC07-C47D-4505-BA35-153F3745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EADA7E-D3C1-4400-90C1-D9FE5D8B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E2FAD0-9061-45A9-8EB0-4EA53893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1F1F58-1C07-4392-84FB-E9AD1E92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A41782-BC54-40F4-B937-21585440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D4D69C-F7A6-40EA-9009-F4C1B460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57B46D-13DF-4B67-8E28-0BFA9CF6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4CAC93-5F25-4EAE-868C-83768314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14D9-E3C5-49E6-AFF1-EAB95254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0F7F9D-E53F-4E9D-8D3E-BABDD8B8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25F4A4-3696-4516-8B2C-E8DF6B44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7CD606-C676-46A8-B70B-DE370E07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834600-12E0-49CA-BE22-A489D69D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890554-2E01-4F7F-BAA9-1115495E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086E-AF58-47B6-9140-C5B9AA00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79CA-24DD-468B-9C6F-0473DBDB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7DFC-86B6-4C83-980A-B9901E5A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3348-A37D-4408-A517-024CBC21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22D2-1F9E-4C2C-9BC2-DC50AFB7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3F8-B48F-483F-A7CC-4BBE3738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4EA3-A1E9-4EF5-A38E-D0355B4C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38E7-DA54-4072-B87D-2FA407B7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9B01-ED9C-4272-B8C9-68238471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73BC-E1E6-468E-8437-1E739ADA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6AE8-BFA2-472E-9FBA-E3AEB627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AB076-FA5E-464B-BE44-BB365423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1384D-63C9-4B0F-99CB-0E3DB228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A35B4-6C87-4B74-ACE8-5D7318CE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397C8-FC45-442C-979B-55B8B2F5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2DDB-2426-4544-8583-1C0C7FD3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841-F017-431B-B361-6E98B345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BB55-0F40-4B46-A931-5A154F1A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58F1-14F8-4025-B623-66929EF3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F320B-822E-4819-BA79-491838D1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2DFB-8C30-4508-9249-A9F0329C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6810F-2DCB-41FE-B034-ECC5211D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8262-8ADA-4D48-BDE8-AD49E680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B8A1-1C2E-4F7C-8B62-44FC569D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84104-DFD5-47AC-A228-41A9E186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A7CAC-A346-4DBA-9B16-88292D75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EAE7-678B-4B80-914D-AFE496A0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C3B-BE86-427E-96E4-8698475B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631CC-09AD-455C-BA58-E0C2F1BB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56BFB-5C4E-4516-849C-28535533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91C1-2743-4776-BC7A-6FA174F1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896AC-427E-4A09-995D-6A821BC1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E709-5955-4C3B-AF04-EC414F14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D8A1A-D7B6-4954-BC20-D34A0C2C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C3ED5-83B0-4BA2-9AFD-5C9D0794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D051F-BEA4-4706-B244-BEC05EF7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257B-A053-4140-A557-989D2695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41505-4560-4823-9611-3BE20AD9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6D7-FE11-411A-A62F-DEFB334E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31EDA-6E84-4990-8D08-5AAF98C0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74D25-F17E-48F5-863E-18A66A87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B4E07-74EF-41E4-B264-2E782C5E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0FD9F-0557-4702-B37D-D1AF13B3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73A16-4659-4090-B32D-50FA37B4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6B56A-7EC4-4FA1-8E3E-36356960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1A191-1976-4E23-BD0F-24FFEC17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8D851-F746-42AA-8504-E0B561F7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8234F-2F36-49A7-B867-1F36E848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CE6BC-6F9E-42CC-A4FF-312C4B04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59A-3618-488C-AE6E-62F6D57E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9B633-E389-4E9A-8E08-7EB75FC4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A484A-F7F5-4A30-9D64-BB47E0A4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F9947-727E-4ABA-9B27-B3D989C5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CAF55-635F-4076-B313-D6B2611C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FEB11-1E43-492E-A880-5BCB8D23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5E74C-5829-4614-86BE-CB8D4BF3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9D540-E9A0-4913-BF29-66A4D115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88978-CD53-4FCB-8622-1894CBAA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66CA8-4835-4857-94FC-814224B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2C36B-8D4B-48B1-8BA3-E32BACEE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2AF-3970-4E10-AEF9-B8201066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0B636-D16F-4309-ACC4-0BF2449F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DC072-44A4-4BEC-B4F7-D5206450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74855-A7B5-45C7-9455-266CF92E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6E1D0-F773-46D2-93E1-E9298EC7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83192-508F-407D-96A3-4B175588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151C6-3FEB-4C6E-80F3-88E7841C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EF985-C7A3-4AA8-801F-B20ECDB7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A0420-6CA4-49F3-A7D4-DFD5125C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FA953-A311-4FE1-8D25-FB16B8D5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9A5E9-43AB-4AFA-8095-CB7C7F9D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2F7-4F4F-4570-8A71-79811F4C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F7E6E-66A5-4737-BB91-9354968F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C64A3-4150-4F73-AD7D-7698B009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02168-917A-4145-8365-466CD081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62BDB-8C84-464A-884D-E9B50676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5CEF0-6CD6-4372-AC58-FC107CB9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D2AB2-2B7C-4F25-B4C2-44D8069B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A1665-ED47-40C8-A884-300384EB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1E9F5-B886-405B-8A6E-B1FFB3ED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3439E-7A02-4B4A-B481-AC607AAE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B0BE3-9CCA-40A1-8FD5-A52DC217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17C-9686-4D89-B514-602CF743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52395-4B79-44FE-AB9A-3FB75F09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DC1FF-9BA3-4BAE-BA16-A09E20B2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C50BC-E48C-484B-A12A-CA5A3107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13460-58F0-4860-8AF6-492E6F42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BCC3F-61AC-497B-B306-122425FD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DF08D-305C-41C6-8C88-F71DA517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6E60D-626E-4218-9A24-5502D188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1210B6-BD4B-488D-853B-13FCD203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C24A24-A2C3-40BB-A4FA-E83E4831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ABB71A-1441-4ECF-9A82-F4BFDEEC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6866-8E38-4686-BCF2-5FEAAC0BFC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9778-DE43-4E2C-A1E3-DB6D33CF22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7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7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BB60-87FD-448E-BE08-071A925B63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3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3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245B-CEF4-4A2B-B0C7-83E51AC902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F7BA-217A-49DA-9980-BCB46B8265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9896-1A14-461E-8A67-666B176E95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7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E274-2DD9-497E-A575-40DA97D7B4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3A31-889B-40E1-842A-78862955D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2E16-E442-47FA-89FE-B2FF4507D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874D-0FC3-448D-B701-2B2902690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5F90-DC8C-47D9-AE9B-6EF5C7573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94B3-D05A-4826-BCA7-C2926B77148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23isback.com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d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d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3f2d9"/>
                </a:solidFill>
                <a:latin typeface="Arial"/>
              </a:rPr>
              <a:t>Steve Broussard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e6da"/>
                </a:solidFill>
                <a:latin typeface="Verdana"/>
              </a:rPr>
              <a:t>All About M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Times New Roman"/>
              </a:rPr>
              <a:t>What I’m good 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tting sho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ted on the Blo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tting Mon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y Favorite Web Sit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ww.theshoegam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www.23isba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ww.nicekick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0496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y Favorite Food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ke Pot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y Favorite Teachers are…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s. We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s. Rich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. J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f I could I would…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put all of the Jordan's on sale for a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n 10 years I…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be the richest e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My Favorite artists/athletes are….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hael Jord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t P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0:32Z</dcterms:created>
  <dc:creator>004student</dc:creator>
  <dc:description/>
  <dc:language>en-US</dc:language>
  <cp:lastModifiedBy>004student</cp:lastModifiedBy>
  <dcterms:modified xsi:type="dcterms:W3CDTF">2008-10-30T16:00:43Z</dcterms:modified>
  <cp:revision>5</cp:revision>
  <dc:subject/>
  <dc:title>Steve Broussard</dc:title>
</cp:coreProperties>
</file>